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CA90-FE5D-4E17-93A8-0D4E0A02C100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4760"/>
            <a:ext cx="490248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B061-956F-4A7E-AE25-4015959BF91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AED8-62DA-40B6-867B-DF2BE1A9F03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7B49-67EC-45AC-B8B7-AC62DA2147DA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56240"/>
            <a:ext cx="53294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454B-C3D8-4758-88A4-6565DE85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0C45-75BE-42A3-81DE-61F12EB0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EF4E-A2D9-4A69-81F7-C10C69BD8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790E-1C8F-46DA-9A69-C7921AD85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E80C-CDD2-41FE-9080-C82CA76D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B62A-F22A-4A65-A65B-44643245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CACA-BBD7-4C08-A87D-15E70BD8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AF17-AAA4-40D5-B081-C8610026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99AB-5934-4372-9574-C8C3FFD0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B16D-5773-4786-B0AF-EDC6155C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B9C4-AC8C-4FD7-B043-4474F32F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FE7A-753D-48B6-A47D-A2CB865E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E4B6-9E53-4AC4-9D07-6C4DCEA46AE1}" type="datetime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553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42F3-9D69-46C5-BEAE-CC02675553F5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3365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Extracted from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AI  Amateur-built and Experimental Aircraft Commission  -  CIACA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00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31st Plenary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ris ,  Aero Club de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rch 31st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189000"/>
          <a:ext cx="8926560" cy="59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2656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A983-8BED-4011-9DE2-3087226546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BA1B55-813C-4E2E-9A68-918F8AD7C1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4162680" cy="21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2567160"/>
            <a:ext cx="2541600" cy="17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7921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AI Gold Air Medal to Jon JOHANSON (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hree times round the world (1995,1996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both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09240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www.vansaircraft.com/public/jj-pers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0BD1-A8A8-4258-8C63-D1F25D6632CE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2F3337-2DD1-4F2F-BE54-C20D87B7EF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669000"/>
            <a:ext cx="7561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75640" y="6669000"/>
            <a:ext cx="217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7017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596880" cy="64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« The High Flyers Nigh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936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ris, Palais du Luxembourg, 14 October 2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6400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78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3_High Flyers_m" descr=""/>
          <p:cNvPicPr/>
          <p:nvPr/>
        </p:nvPicPr>
        <p:blipFill>
          <a:blip r:embed="rId2"/>
          <a:stretch/>
        </p:blipFill>
        <p:spPr>
          <a:xfrm>
            <a:off x="2195640" y="884160"/>
            <a:ext cx="5184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0920" y="4581360"/>
            <a:ext cx="2128680" cy="1634400"/>
            <a:chOff x="250920" y="4581360"/>
            <a:chExt cx="2128680" cy="1634400"/>
          </a:xfrm>
        </p:grpSpPr>
        <p:pic>
          <p:nvPicPr>
            <p:cNvPr id="69" name="42_High Flyers_m" descr=""/>
            <p:cNvPicPr/>
            <p:nvPr/>
          </p:nvPicPr>
          <p:blipFill>
            <a:blip r:embed="rId3"/>
            <a:stretch/>
          </p:blipFill>
          <p:spPr>
            <a:xfrm>
              <a:off x="32220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50920" y="58784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Buzz Aldrin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98920" y="4437000"/>
            <a:ext cx="1944720" cy="2210400"/>
            <a:chOff x="3598920" y="4437000"/>
            <a:chExt cx="1944720" cy="2210400"/>
          </a:xfrm>
        </p:grpSpPr>
        <p:pic>
          <p:nvPicPr>
            <p:cNvPr id="72" name="40_Centenary Medal_m" descr=""/>
            <p:cNvPicPr/>
            <p:nvPr/>
          </p:nvPicPr>
          <p:blipFill>
            <a:blip r:embed="rId4"/>
            <a:stretch/>
          </p:blipFill>
          <p:spPr>
            <a:xfrm>
              <a:off x="3888000" y="4437000"/>
              <a:ext cx="13143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98920" y="631008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FAI Centenary Medal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43640" y="4581360"/>
            <a:ext cx="2449440" cy="1634400"/>
            <a:chOff x="6443640" y="4581360"/>
            <a:chExt cx="2449440" cy="1634400"/>
          </a:xfrm>
        </p:grpSpPr>
        <p:pic>
          <p:nvPicPr>
            <p:cNvPr id="75" name="41_High Flyers_m" descr=""/>
            <p:cNvPicPr/>
            <p:nvPr/>
          </p:nvPicPr>
          <p:blipFill>
            <a:blip r:embed="rId5"/>
            <a:stretch/>
          </p:blipFill>
          <p:spPr>
            <a:xfrm>
              <a:off x="673272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43640" y="587844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Steve Fossett &amp; Bertrand Piccard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8000" y="64674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609480"/>
          <a:ext cx="7772400" cy="5505480"/>
        </p:xfrm>
        <a:graphic>
          <a:graphicData uri="http://schemas.openxmlformats.org/drawingml/2006/table">
            <a:tbl>
              <a:tblPr/>
              <a:tblGrid>
                <a:gridCol w="1492200"/>
                <a:gridCol w="1841400"/>
                <a:gridCol w="3586320"/>
                <a:gridCol w="85248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iscip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erforma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éro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ertrand Picc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r>
                        <a:rPr b="0" lang="fr-FR" sz="900" spc="-1" strike="noStrike" baseline="30000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r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Tour du monde en ballon+ records altitude et durée en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erostation (gaz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F &amp; V L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inqueurs de4 coupes Gordon Benn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stronom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doin Dollf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viation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teve Foss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our du monde en ballon  et en avion en solo et sans e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lery Poliak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spatial prolongé 437 jours 18 he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uzz Aldr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er équipage sur la lu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irav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an Bou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cord du monde d'altitude en hél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ral Valérie And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breuses missions de sauve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eryl Stear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ultiples records du monde en chute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J Wor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éateur du saut en "free style" et "canopy piloting", organisateur des + grands evenements de parachutisme.  Cascades de James B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à Vo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Klaus Ohlma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, dont celui 3000 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anfred Ruhm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ampion du Monde en 1999 et d’Europe en 1998. + CdM Speedgliding 2003 + reco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en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rzy Maku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6 X champion du monde et 2 X d'Europe en voltige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atherine Mauno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2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vetlana Kapa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5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ke Blyth + Olivier Au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 et voyages en pendu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A + 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uc Trullem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outeur des courses en bal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835280" y="8366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4270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9960" y="253512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25800" y="30114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50706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25360"/>
            <a:ext cx="77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C845-78CA-4C2B-B285-8078F6EA972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49A1B9-118C-4F92-9E75-02A5E72371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6560" y="40356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Lausanne 27/28.August. The EAS was present there to inform about the amateur built section of aviation, the public interest was very high and a lot of interest was generated, we had inside an aircraft under construction (Kitfox) and a Bruegger Colibri, outside in the static display was a Slepcev Storck, a Cherry and a RV-6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58880" y="2276640"/>
            <a:ext cx="5826240" cy="37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29DF-E003-43F0-A073-79159BDEDC00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EB4F68-CCA0-4EAB-B2DD-9B6B0F593B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imes New Roman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FAI thanks the Aero Club de France for helping us to celebrate the Centenary in style, and for hosting the CIACA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589B-0336-4E7F-B021-65D5C15E42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2E3FD1-2241-4762-ACA2-ECF3FC1A32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ew economic racing class p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oject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part of the Bleu Citron progr.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Presented by Mr. Frédéric Hubschwerle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4237200" cy="25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4920" y="1197000"/>
            <a:ext cx="4238640" cy="256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905280"/>
            <a:ext cx="4176720" cy="25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40120" y="3906720"/>
            <a:ext cx="417672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F46E-4FBC-4CBC-B374-DD82E4751F2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FFE085-D738-43AC-91AC-68A4C32B9F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IACA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First experience with the CMS  (From Werner Schnei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we have finally access to add, edit content on the webpage, we can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add more editors by ourself,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s is a real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the first steps were promising (I was able to add some content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erry does this as a course I have not yet all information I w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like to have but thats just a matter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ill fated non working database is finally g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CMS is very powerful and does help to align content in a wa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web has a corporate design, this is a very good move. We will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how this develops and I hope the approach to have from each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each year at least one little story to present will make the CIAC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more al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03F6-1C9B-4C7F-8DF4-F1E5153531E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2983C9-6290-4DFB-A9A9-317152FE54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15:20Z</dcterms:created>
  <dc:creator>UAA15B0</dc:creator>
  <dc:description/>
  <dc:language>en-US</dc:language>
  <cp:lastModifiedBy> </cp:lastModifiedBy>
  <dcterms:modified xsi:type="dcterms:W3CDTF">2006-08-22T13:59:23Z</dcterms:modified>
  <cp:revision>100</cp:revision>
  <dc:subject/>
  <dc:title>Presentazione di PowerPoint</dc:title>
</cp:coreProperties>
</file>